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gif" ContentType="image/gif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137-8489-4C4F-BE98-A10E0CF8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80E-0995-457A-8E85-23F3E67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195-0B8E-4146-8BA0-46890649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7BB-DF41-4DDE-9368-73A5DF19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DCA-C4D1-4C1D-AD97-4E60085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C81-F0F1-4869-9A0E-DF3703F2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BE3-8DAC-4B63-B417-FA1B70D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FAD-8321-44CB-BB74-CB46B37C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363-6F1F-4CE1-B195-AA910C2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C19-7397-41F9-B3FE-8BC2C27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100-F2BB-45FF-979C-562C901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036-0AAC-42C0-A6E6-F1CA339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4E8-808B-4092-9B7D-737D5EC13C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Castellar"/>
              </a:rPr>
              <a:t>Habits of mind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haracter trait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ritical thin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j0415144"/>
          <p:cNvPicPr/>
          <p:nvPr/>
        </p:nvPicPr>
        <p:blipFill>
          <a:blip r:embed="rId1"/>
          <a:stretch/>
        </p:blipFill>
        <p:spPr>
          <a:xfrm>
            <a:off x="3429000" y="1371600"/>
            <a:ext cx="21049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How can you succeed in school, college and life?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Learn th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Habits of Mind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Live them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Before we begin we must first answer a few ques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You have </a:t>
            </a:r>
            <a:r>
              <a:rPr b="0" lang="en-US" sz="4400" spc="-1" strike="noStrike">
                <a:solidFill>
                  <a:srgbClr val="ffffff"/>
                </a:solidFill>
                <a:latin typeface="Calisto MT"/>
              </a:rPr>
              <a:t>90 </a:t>
            </a: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s to turn to a partner and discuss the following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j0336396"/>
          <p:cNvPicPr/>
          <p:nvPr/>
        </p:nvPicPr>
        <p:blipFill>
          <a:blip r:embed="rId1"/>
          <a:stretch/>
        </p:blipFill>
        <p:spPr>
          <a:xfrm>
            <a:off x="58672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407734"/>
          <p:cNvPicPr/>
          <p:nvPr/>
        </p:nvPicPr>
        <p:blipFill>
          <a:blip r:embed="rId2"/>
          <a:stretch/>
        </p:blipFill>
        <p:spPr>
          <a:xfrm>
            <a:off x="4114800" y="304812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j0336396"/>
          <p:cNvPicPr/>
          <p:nvPr/>
        </p:nvPicPr>
        <p:blipFill>
          <a:blip r:embed="rId3"/>
          <a:stretch/>
        </p:blipFill>
        <p:spPr>
          <a:xfrm>
            <a:off x="28954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is a habit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are examples of good habit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are examples of good learning/studying habits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Calisto MT"/>
              </a:rPr>
              <a:t>When responding, please remember to speak in complete sentences using academic language and raise your hand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j0283679"/>
          <p:cNvPicPr/>
          <p:nvPr/>
        </p:nvPicPr>
        <p:blipFill>
          <a:blip r:embed="rId1"/>
          <a:stretch/>
        </p:blipFill>
        <p:spPr>
          <a:xfrm>
            <a:off x="6248520" y="4267080"/>
            <a:ext cx="88560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Will all that help in colleg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What do they expect you to know or do when you get to colle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How can you prep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j0399894"/>
          <p:cNvPicPr/>
          <p:nvPr/>
        </p:nvPicPr>
        <p:blipFill>
          <a:blip r:embed="rId1"/>
          <a:srcRect l="0" t="0" r="31660" b="38466"/>
          <a:stretch/>
        </p:blipFill>
        <p:spPr>
          <a:xfrm>
            <a:off x="4495680" y="3048120"/>
            <a:ext cx="2438640" cy="14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399895"/>
          <p:cNvPicPr/>
          <p:nvPr/>
        </p:nvPicPr>
        <p:blipFill>
          <a:blip r:embed="rId2"/>
          <a:stretch/>
        </p:blipFill>
        <p:spPr>
          <a:xfrm>
            <a:off x="5867280" y="4876920"/>
            <a:ext cx="214956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Start by implementing the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Habits of Mi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Metacognition (Intellectual Humil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Persev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e all know what an intellectual is but what does it mean to hav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Hum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Persev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Ponder on the above for 45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Turn to a partner and share your thou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Be prepared to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Metacognition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(Intellectual Humility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 know what I know, I don’t know it 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 don’t know why, I just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s is how much I do/don’t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My up bringing and my experiences shape vie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Why do you believe it?  Pro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Intellectual Persever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Never give up, never surrender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e light bulb wasn’t invented over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How many rough drafts does it take to get final cop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e easiest route isn’t always the b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f the answer is yes or no, then maybe you weren’t listening to the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Intellectual Curios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Understanding why and for wh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nk globally and look into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ake a class for the knowledge not the g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7:08:25Z</dcterms:created>
  <dc:creator>Tania</dc:creator>
  <dc:description/>
  <dc:language>en-US</dc:language>
  <cp:lastModifiedBy>USER</cp:lastModifiedBy>
  <dcterms:modified xsi:type="dcterms:W3CDTF">2006-08-08T03:44:47Z</dcterms:modified>
  <cp:revision>5</cp:revision>
  <dc:subject/>
  <dc:title>Habits of minD </dc:title>
</cp:coreProperties>
</file>